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93F3-11FF-4B6E-98D4-B22844816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9DAE-3D4D-4B4E-AAA7-5D7BB70F1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717C-E96F-44B4-A8BC-5654BBB5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2A54-8DCF-4E9B-AA69-86A04BE6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8476-E7CF-4AF8-95EA-525E915A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F538-7DD4-43F1-9786-E28309F6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1360-583E-4C92-9C19-68BAB909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DEE2-F2D0-4B3A-AD89-783261A7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E785-E85F-4AF3-9C56-A1F53114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DFE1-8BD8-43E9-8518-2978CC79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3BCB-DE9F-4178-9211-3AB738A4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896A-45B7-41D5-86A0-ABAA799B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4543-60C9-4633-805C-2433B78E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70C2-913B-4951-A689-8ED6F494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7382-4FB8-45DC-8847-5DED54689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ureen Sh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oureen S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oureen Sher (1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oureen Sher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oureen Sher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r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 nombre es Noureen Sher. Yo soy de los Estados Unidos. Yo amo la música y el canto. Tengo trece años. Yo amo One Direction, Ed Sheeran, Little Mix, and Taylor Swift. </a:t>
            </a:r>
            <a:r>
              <a:rPr b="0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Yo soy extrovertida y graciosa. Yo no muerden, add me! </a:t>
            </a:r>
            <a:r>
              <a:rPr b="0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7" descr="Photo on 2011-10-21 at 13.53 #2.jpg"/>
          <p:cNvPicPr/>
          <p:nvPr/>
        </p:nvPicPr>
        <p:blipFill>
          <a:blip r:embed="rId1"/>
          <a:stretch/>
        </p:blipFill>
        <p:spPr>
          <a:xfrm>
            <a:off x="36360" y="433440"/>
            <a:ext cx="1957680" cy="2060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62"/>
          <p:cNvSpPr/>
          <p:nvPr/>
        </p:nvSpPr>
        <p:spPr>
          <a:xfrm>
            <a:off x="762120" y="57150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6"/>
          <p:cNvSpPr/>
          <p:nvPr/>
        </p:nvSpPr>
        <p:spPr>
          <a:xfrm flipH="1">
            <a:off x="1371600" y="57150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d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8" descr="Photo on 2011-10-21 at 13.53 #2.jpg"/>
          <p:cNvPicPr/>
          <p:nvPr/>
        </p:nvPicPr>
        <p:blipFill>
          <a:blip r:embed="rId2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0" descr="Photo on 2011-10-21 at 13.39 #2.jpg"/>
          <p:cNvPicPr/>
          <p:nvPr/>
        </p:nvPicPr>
        <p:blipFill>
          <a:blip r:embed="rId3"/>
          <a:stretch/>
        </p:blipFill>
        <p:spPr>
          <a:xfrm>
            <a:off x="2109960" y="3273480"/>
            <a:ext cx="554040" cy="79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4" descr="Photo on 2011-10-21 at 13.53 #2.jpg"/>
          <p:cNvPicPr/>
          <p:nvPr/>
        </p:nvPicPr>
        <p:blipFill>
          <a:blip r:embed="rId4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a Noureen! ¿Quieres ir de compras en 1D World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adia Uddin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8" descr="Photo on 2011-10-21 at 13.46.jpg"/>
          <p:cNvPicPr/>
          <p:nvPr/>
        </p:nvPicPr>
        <p:blipFill>
          <a:blip r:embed="rId5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No puedo esperar para mi cumpleaños!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Noure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Diciembre 3 de 2012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ureen S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9" descr="Photo on 2011-10-21 at 13.53 #2.jpg"/>
          <p:cNvPicPr/>
          <p:nvPr/>
        </p:nvPicPr>
        <p:blipFill>
          <a:blip r:embed="rId6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2" descr="Photo on 2011-10-21 at 13.46.jpg"/>
          <p:cNvPicPr/>
          <p:nvPr/>
        </p:nvPicPr>
        <p:blipFill>
          <a:blip r:embed="rId7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óla! Cómo están mis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2"/>
          <p:cNvSpPr/>
          <p:nvPr/>
        </p:nvSpPr>
        <p:spPr>
          <a:xfrm>
            <a:off x="685800" y="632448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hfoo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55:02Z</dcterms:created>
  <dc:creator>FriscoISD</dc:creator>
  <dc:description/>
  <dc:language>en-US</dc:language>
  <cp:lastModifiedBy>NYCDOE</cp:lastModifiedBy>
  <dcterms:modified xsi:type="dcterms:W3CDTF">2012-12-05T14:10:55Z</dcterms:modified>
  <cp:revision>101</cp:revision>
  <dc:subject/>
  <dc:title>Profile</dc:title>
</cp:coreProperties>
</file>